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CA9D-BF8A-4CF0-AB58-F3C8D5766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8A9A-98D2-47E8-A6A9-3DA02311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3811-4D08-47DA-B3F4-98D1F0153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6317-EC51-4045-90B2-E4706BC6F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9C08-5658-4E15-846E-4C21A05E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C456-8106-4D6C-9FA0-AE944B8C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35C1-575F-40A8-B31E-400FC139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4A0C-BE0E-4B20-B535-31FE926B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F603-5353-4493-B022-614F25F0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CCAD-FA2C-4E8E-856B-6A5B8F32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050E-D79D-4ABD-A985-DF627679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08A1-4F23-4138-837E-BE4EEBF7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D4F6-11FB-4C49-B0A5-9A4461117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тицање знања, вештина и компетенција пр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сионалаца за рад са младим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з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у петофазног процесног модела професионалне оријентације и стварање системске мреже подршке у области професионалне оријент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6516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447920"/>
            <a:ext cx="86104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пшти циљ програма базичне об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3880" y="1143000"/>
            <a:ext cx="69613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286000"/>
            <a:ext cx="853416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напређивање знања, вештина и компетенција професионалаца 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имену модела П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оз модуле: самоспознаја, информисање о занимањима, каријери и путевима образовања, реални сусрети са светом рада и доношење одлуке о школи и занимањ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ршку у остваривању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ал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х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сре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са партнерима у области ПО: средње школе;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калне канцеларије за младе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ционална служба за запошљавање; привре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д са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одитељ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а на пружању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дрш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еци у  процесу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есионалног информисања и саветовања  до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оношењ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одлуке о избору школе и занимањ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оцесно оријентисано индивидуално праћење младих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области професионалне оријентациј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режавање професионалац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институција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 ширење идеје о процесном петофазном моделу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есионалне оријентације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990720"/>
            <a:ext cx="88390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Специфични циљеви базичне обу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у у средњу шко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MP</cp:lastModifiedBy>
  <dcterms:modified xsi:type="dcterms:W3CDTF">2012-02-04T13:21:13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